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45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0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B20-E010-48B3-8E1E-9CEEB892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04B-5E6C-4A28-B94F-944A3ABC0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4BE-B43F-4520-8BB5-AFD070F2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CB83-AC31-41C0-ACC9-52E6757D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936-355C-40F1-9E90-D2ECE806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B125-690D-433E-A2C2-8B6E32112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71B-2AE3-45CC-AFC5-AB5278E3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A8A-2625-43A5-A135-1C296D59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B67-B519-4CA5-8FFC-4A25A3E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C25-4644-4BBE-9219-A16C8CDB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319-96D9-4F49-B067-5FC02431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C754-415E-40F3-A620-E8504111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3FB8-FC4D-4332-9118-6C305A3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B553-12B8-4ABB-9901-DD205FBD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A980-6032-4129-8DDE-BCA8CD3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5381-923B-4634-8A1B-A5504FE6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5F03-D2ED-49B2-B859-3E1D7565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95F3-C928-47FA-89D6-12DD5F4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A76-229F-4091-A255-6CDA2510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F7F0-4F75-42E9-AE69-BC0E561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D3BC-4315-424E-9C32-3843345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7827-2991-4EFB-BE3A-B749A8A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1B6-E5F8-4DB8-92B0-410F228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7AA-AC1C-4527-AB84-C98DFA7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658-9D21-4DEE-BB2A-54982F5A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EDE-B99F-4DBE-90D2-2EA905B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362-1553-4040-B353-AC6363E1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3F5-D5A3-49D0-A9D1-8B352BB1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8B9-9505-4E92-91F6-2B510E3E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70C-10D3-43C5-B2DA-A8B7BED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24D-6916-41E4-BB5C-552050C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1E59-2976-41E0-8032-D87DD39EF1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2D29-1D30-4CBD-8274-831E2BF74F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6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cybercomm.nl/%7Eivo/photo_GEORGE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oquitlam River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February 27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“needs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ain the s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7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995360" y="41385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magesCAOEUU8Y.jpg"/>
          <p:cNvPicPr/>
          <p:nvPr/>
        </p:nvPicPr>
        <p:blipFill>
          <a:blip r:embed="rId7"/>
          <a:stretch/>
        </p:blipFill>
        <p:spPr>
          <a:xfrm>
            <a:off x="4619520" y="103176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631280" y="4836600"/>
            <a:ext cx="1215720" cy="121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imagesCA71CM7J.jpg"/>
          <p:cNvPicPr/>
          <p:nvPr/>
        </p:nvPicPr>
        <p:blipFill>
          <a:blip r:embed="rId13"/>
          <a:stretch/>
        </p:blipFill>
        <p:spPr>
          <a:xfrm>
            <a:off x="6012000" y="27511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magesCAW4N5TV.jpg"/>
          <p:cNvPicPr/>
          <p:nvPr/>
        </p:nvPicPr>
        <p:blipFill>
          <a:blip r:embed="rId14"/>
          <a:stretch/>
        </p:blipFill>
        <p:spPr>
          <a:xfrm>
            <a:off x="177840" y="400536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7"/>
          <a:stretch/>
        </p:blipFill>
        <p:spPr>
          <a:xfrm>
            <a:off x="2351160" y="73332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untitlewd.bmp"/>
          <p:cNvPicPr/>
          <p:nvPr/>
        </p:nvPicPr>
        <p:blipFill>
          <a:blip r:embed="rId18"/>
          <a:stretch/>
        </p:blipFill>
        <p:spPr>
          <a:xfrm rot="20406000">
            <a:off x="649440" y="1028520"/>
            <a:ext cx="190476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2436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240" y="3774960"/>
            <a:ext cx="29275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628560" y="907920"/>
            <a:ext cx="8045640" cy="5774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9960" y="1089000"/>
            <a:ext cx="8501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92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Impact"/>
              </a:rPr>
              <a:t>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78144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Google: Connect and Protect wi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348000" y="3540240"/>
            <a:ext cx="33116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7" descr=""/>
          <p:cNvPicPr/>
          <p:nvPr/>
        </p:nvPicPr>
        <p:blipFill>
          <a:blip r:embed="rId2"/>
          <a:stretch/>
        </p:blipFill>
        <p:spPr>
          <a:xfrm>
            <a:off x="3780000" y="4522680"/>
            <a:ext cx="164592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8" descr=""/>
          <p:cNvPicPr/>
          <p:nvPr/>
        </p:nvPicPr>
        <p:blipFill>
          <a:blip r:embed="rId3"/>
          <a:stretch/>
        </p:blipFill>
        <p:spPr>
          <a:xfrm>
            <a:off x="1189080" y="4943520"/>
            <a:ext cx="14936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9" descr=""/>
          <p:cNvPicPr/>
          <p:nvPr/>
        </p:nvPicPr>
        <p:blipFill>
          <a:blip r:embed="rId4"/>
          <a:stretch/>
        </p:blipFill>
        <p:spPr>
          <a:xfrm>
            <a:off x="6010200" y="422424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? (Facebook? MySpace? Twitter? Other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hatting On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 tonight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1327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ocated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imits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-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family expectation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hildren around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actical, proactive strateg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your children around healthy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The Bridge"/>
          <p:cNvPicPr/>
          <p:nvPr/>
        </p:nvPicPr>
        <p:blipFill>
          <a:blip r:embed="rId1"/>
          <a:stretch/>
        </p:blipFill>
        <p:spPr>
          <a:xfrm>
            <a:off x="2998800" y="3398760"/>
            <a:ext cx="3019320" cy="2228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80760" y="64404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7520" y="836280"/>
            <a:ext cx="37861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498600" y="3892680"/>
            <a:ext cx="1238040" cy="23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photo_GEO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2400" y="4592520"/>
            <a:ext cx="1629000" cy="127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jeannie001"/>
          <p:cNvPicPr/>
          <p:nvPr/>
        </p:nvPicPr>
        <p:blipFill>
          <a:blip r:embed="rId5"/>
          <a:stretch/>
        </p:blipFill>
        <p:spPr>
          <a:xfrm rot="20797800">
            <a:off x="4751280" y="159336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oodstock Festival Remembered"/>
          <p:cNvPicPr/>
          <p:nvPr/>
        </p:nvPicPr>
        <p:blipFill>
          <a:blip r:embed="rId7"/>
          <a:stretch/>
        </p:blipFill>
        <p:spPr>
          <a:xfrm rot="604200">
            <a:off x="6484680" y="3841920"/>
            <a:ext cx="1714320" cy="209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appy days.jpg"/>
          <p:cNvPicPr/>
          <p:nvPr/>
        </p:nvPicPr>
        <p:blipFill>
          <a:blip r:embed="rId8"/>
          <a:stretch/>
        </p:blipFill>
        <p:spPr>
          <a:xfrm>
            <a:off x="2655720" y="205740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gilligans-island-season-2.jpg"/>
          <p:cNvPicPr/>
          <p:nvPr/>
        </p:nvPicPr>
        <p:blipFill>
          <a:blip r:embed="rId9"/>
          <a:stretch/>
        </p:blipFill>
        <p:spPr>
          <a:xfrm rot="529200">
            <a:off x="7454880" y="51444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tari_2600.png"/>
          <p:cNvPicPr/>
          <p:nvPr/>
        </p:nvPicPr>
        <p:blipFill>
          <a:blip r:embed="rId11"/>
          <a:stretch/>
        </p:blipFill>
        <p:spPr>
          <a:xfrm>
            <a:off x="122400" y="555480"/>
            <a:ext cx="177480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2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3"/>
          <a:stretch/>
        </p:blipFill>
        <p:spPr>
          <a:xfrm>
            <a:off x="3854520" y="4889520"/>
            <a:ext cx="1616040" cy="16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761760"/>
            <a:ext cx="471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156360" y="5940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374920" cy="341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4873680" y="4224240"/>
            <a:ext cx="2038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20:01:56Z</dcterms:modified>
  <cp:revision>97</cp:revision>
  <dc:subject/>
  <dc:title>Technology, kids and you</dc:title>
</cp:coreProperties>
</file>